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450BE-9B50-40F8-9928-33980A74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1E91C-0408-4BC0-AFD6-18527DF0D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02D5E-6B67-4DD7-B8CF-5F51824CC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86038-69EA-49ED-BD77-D5CFE3313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B88DB-FFB5-40A5-915E-72B70529D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6482B-19E9-4832-A842-0AF7E6B9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6F6D9-E192-4162-84F7-31696D7E1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2D827C-DA95-4743-A70E-115AD1AC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EA00B-F043-47B5-8299-573E0075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226D0-2BE1-4083-B7CD-660E8124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489DF-BB7D-453E-97A0-3183E17C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786DA-41AC-42BA-A706-6BD8757E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39711-19C0-464E-A660-46329EFF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B7B68-7B46-4BC8-B90F-A210F1D3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35FDC-B0D2-488C-8602-729F152F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1AF84-6D82-4E07-95E2-BAFC9915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4E2C8-07EF-48B8-B6DC-A9BBD590E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4955E-3089-4D0B-B3BC-56B239758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ED3D6-F287-4984-AEC7-220A7D4E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0FADB-9D5B-4242-B5B2-F2B2B07F8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C45BB-21AD-4E6C-85D3-AF190ABA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CD2C7-CBE3-47AA-BDCA-057B74EB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0F04C-4ACF-461F-8E11-019E547B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DB3FF-FEA6-4ABA-A899-0E19B826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6CC9F-C000-46FE-8F51-EF88470F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BE544-5A7B-438F-A760-8A7C892D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3D709-455B-4269-932E-EFECF4F1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1DCC5-8C70-4093-BD22-41B5ABE2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F9CF9-AB99-4F22-AE96-D499E304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1DE05-03D0-43B0-8187-C3DF5376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2E9FE-0A1D-461B-9328-B6779497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AA0DF-D4D3-4C86-ACF8-7004EACA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1F8-F7F8-4685-8BC3-69082819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9D1-16B4-4005-878D-9D9DF33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6F1-5E20-4997-A1B9-8B412DAB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A25-DAF6-4863-BB9F-1D3B2EF8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188-6F5F-4BC9-AC74-5C8624A4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25C-35F6-4591-87E7-AA049CEA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FCB-0872-408C-9164-8F29C4EB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7BA-4D4B-4B4B-BD15-E9554C25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55C-CED6-4062-BAFB-2D4839B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944-D578-43AD-9A48-A0C227A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A6D-51AF-417D-9D5B-72E9ED9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6F9-3737-49BE-B743-329EE69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192-A716-485C-99DD-8AD2F027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Learning Letter Sounds</a:t>
            </a: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Jack Hartman</a:t>
            </a:r>
            <a:br>
              <a:rPr sz="4400"/>
            </a:br>
            <a:r>
              <a:rPr b="0" lang="en-US" sz="4400" spc="-1" strike="noStrike">
                <a:solidFill>
                  <a:srgbClr val="99cc00"/>
                </a:solidFill>
                <a:latin typeface="AbcPrint"/>
                <a:ea typeface="AbcPrint"/>
              </a:rPr>
              <a:t>Shake, Rattle, and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A</a:t>
            </a: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62160" y="15238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474"/>
              </a:spcBef>
              <a:buClr>
                <a:srgbClr val="000000"/>
              </a:buClr>
              <a:buFont typeface="ZB Manu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 </a:t>
            </a:r>
            <a:r>
              <a:rPr b="0" lang="en-US" sz="21900" spc="-1" strike="noStrike">
                <a:solidFill>
                  <a:srgbClr val="000000"/>
                </a:solidFill>
                <a:latin typeface="ZB Manuscript"/>
              </a:rPr>
              <a:t>Z</a:t>
            </a: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4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alligator%252001"/>
          <p:cNvPicPr/>
          <p:nvPr/>
        </p:nvPicPr>
        <p:blipFill>
          <a:blip r:embed="rId1"/>
          <a:stretch/>
        </p:blipFill>
        <p:spPr>
          <a:xfrm rot="20329200">
            <a:off x="995400" y="42382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zebra"/>
          <p:cNvPicPr/>
          <p:nvPr/>
        </p:nvPicPr>
        <p:blipFill>
          <a:blip r:embed="rId2"/>
          <a:stretch/>
        </p:blipFill>
        <p:spPr>
          <a:xfrm>
            <a:off x="6629400" y="4481640"/>
            <a:ext cx="2514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Hh says /h/ /h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ippopotamus"/>
          <p:cNvPicPr/>
          <p:nvPr/>
        </p:nvPicPr>
        <p:blipFill>
          <a:blip r:embed="rId1"/>
          <a:stretch/>
        </p:blipFill>
        <p:spPr>
          <a:xfrm>
            <a:off x="4343400" y="2057400"/>
            <a:ext cx="42292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Ii says /i/ /i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MS Mincho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intro_insect-2"/>
          <p:cNvPicPr/>
          <p:nvPr/>
        </p:nvPicPr>
        <p:blipFill>
          <a:blip r:embed="rId1"/>
          <a:stretch/>
        </p:blipFill>
        <p:spPr>
          <a:xfrm>
            <a:off x="4343400" y="205740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Jj says /j/ /j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jet"/>
          <p:cNvPicPr/>
          <p:nvPr/>
        </p:nvPicPr>
        <p:blipFill>
          <a:blip r:embed="rId1"/>
          <a:stretch/>
        </p:blipFill>
        <p:spPr>
          <a:xfrm>
            <a:off x="3733920" y="2043000"/>
            <a:ext cx="47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Kk says /k/ /k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ite_lbl_02"/>
          <p:cNvPicPr/>
          <p:nvPr/>
        </p:nvPicPr>
        <p:blipFill>
          <a:blip r:embed="rId1"/>
          <a:stretch/>
        </p:blipFill>
        <p:spPr>
          <a:xfrm>
            <a:off x="4199040" y="1676520"/>
            <a:ext cx="4944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Ll says /l/ /l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&quot;Lion Sitting&quot; Print"/>
          <p:cNvPicPr/>
          <p:nvPr/>
        </p:nvPicPr>
        <p:blipFill>
          <a:blip r:embed="rId1"/>
          <a:stretch/>
        </p:blipFill>
        <p:spPr>
          <a:xfrm>
            <a:off x="4572000" y="1600200"/>
            <a:ext cx="35622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Mm says /m/ /m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onkey-vs-two-tigers"/>
          <p:cNvPicPr/>
          <p:nvPr/>
        </p:nvPicPr>
        <p:blipFill>
          <a:blip r:embed="rId1"/>
          <a:stretch/>
        </p:blipFill>
        <p:spPr>
          <a:xfrm>
            <a:off x="4800600" y="1523880"/>
            <a:ext cx="352584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Nn says /n/ /n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2004%20Uncirc%20Nickel%20obverse-gs"/>
          <p:cNvPicPr/>
          <p:nvPr/>
        </p:nvPicPr>
        <p:blipFill>
          <a:blip r:embed="rId1"/>
          <a:stretch/>
        </p:blipFill>
        <p:spPr>
          <a:xfrm>
            <a:off x="4648320" y="1873080"/>
            <a:ext cx="40384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Oo says /o/ /o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octopus"/>
          <p:cNvPicPr/>
          <p:nvPr/>
        </p:nvPicPr>
        <p:blipFill>
          <a:blip r:embed="rId1"/>
          <a:stretch/>
        </p:blipFill>
        <p:spPr>
          <a:xfrm>
            <a:off x="4419720" y="1905120"/>
            <a:ext cx="4041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Pp says /p/ /p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imgupload%5Cpumpkin"/>
          <p:cNvPicPr/>
          <p:nvPr/>
        </p:nvPicPr>
        <p:blipFill>
          <a:blip r:embed="rId1"/>
          <a:stretch/>
        </p:blipFill>
        <p:spPr>
          <a:xfrm>
            <a:off x="4572000" y="2057400"/>
            <a:ext cx="4048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Qq says /q/ /q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0" spc="-1" strike="noStrike">
                <a:solidFill>
                  <a:srgbClr val="000000"/>
                </a:solidFill>
                <a:latin typeface="ZB Manuscript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1932-D Washington Quarter Obverse"/>
          <p:cNvPicPr/>
          <p:nvPr/>
        </p:nvPicPr>
        <p:blipFill>
          <a:blip r:embed="rId1"/>
          <a:stretch/>
        </p:blipFill>
        <p:spPr>
          <a:xfrm>
            <a:off x="4876920" y="1752480"/>
            <a:ext cx="394488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Rr says /r/ /r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3%20-%20%20rainbows_Resized_300x231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Ss says /s/ /s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F991 B41 - Western Coral Snake, 4 1/2-inch plastic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Tt says /t/ /t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MCAN03906_0000[1]"/>
          <p:cNvPicPr/>
          <p:nvPr/>
        </p:nvPicPr>
        <p:blipFill>
          <a:blip r:embed="rId1"/>
          <a:stretch/>
        </p:blipFill>
        <p:spPr>
          <a:xfrm>
            <a:off x="4267080" y="2286000"/>
            <a:ext cx="4343400" cy="3279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10800000">
            <a:off x="8001000" y="6681240"/>
            <a:ext cx="76320" cy="1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Uu says /u/ /u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000000"/>
                </a:solidFill>
                <a:latin typeface="ZB Manuscript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ainbow_umbrella"/>
          <p:cNvPicPr/>
          <p:nvPr/>
        </p:nvPicPr>
        <p:blipFill>
          <a:blip r:embed="rId1"/>
          <a:stretch/>
        </p:blipFill>
        <p:spPr>
          <a:xfrm>
            <a:off x="4267080" y="1981080"/>
            <a:ext cx="4038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Vv says /v/ /v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violin01"/>
          <p:cNvPicPr/>
          <p:nvPr/>
        </p:nvPicPr>
        <p:blipFill>
          <a:blip r:embed="rId1"/>
          <a:stretch/>
        </p:blipFill>
        <p:spPr>
          <a:xfrm rot="1050600">
            <a:off x="4116240" y="1358640"/>
            <a:ext cx="34099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Ww says /w/ /w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pileated_woodpecker"/>
          <p:cNvPicPr/>
          <p:nvPr/>
        </p:nvPicPr>
        <p:blipFill>
          <a:blip r:embed="rId1"/>
          <a:stretch/>
        </p:blipFill>
        <p:spPr>
          <a:xfrm>
            <a:off x="5070600" y="1600200"/>
            <a:ext cx="319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Xx says /x/ /x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fox"/>
          <p:cNvPicPr/>
          <p:nvPr/>
        </p:nvPicPr>
        <p:blipFill>
          <a:blip r:embed="rId1"/>
          <a:stretch/>
        </p:blipFill>
        <p:spPr>
          <a:xfrm>
            <a:off x="4191120" y="2362320"/>
            <a:ext cx="47242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Yy says /y/ /y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ftp-huck-yoyo"/>
          <p:cNvPicPr/>
          <p:nvPr/>
        </p:nvPicPr>
        <p:blipFill>
          <a:blip r:embed="rId1"/>
          <a:stretch/>
        </p:blipFill>
        <p:spPr>
          <a:xfrm>
            <a:off x="5334120" y="1523880"/>
            <a:ext cx="34830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4419720" y="4267080"/>
            <a:ext cx="22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Aa says /a/ /a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lligator%252001"/>
          <p:cNvPicPr/>
          <p:nvPr/>
        </p:nvPicPr>
        <p:blipFill>
          <a:blip r:embed="rId1"/>
          <a:stretch/>
        </p:blipFill>
        <p:spPr>
          <a:xfrm rot="20329200">
            <a:off x="4593960" y="1892160"/>
            <a:ext cx="317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Zz says /z/ /z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{short description of image}"/>
          <p:cNvPicPr/>
          <p:nvPr/>
        </p:nvPicPr>
        <p:blipFill>
          <a:blip r:embed="rId1"/>
          <a:stretch/>
        </p:blipFill>
        <p:spPr>
          <a:xfrm>
            <a:off x="4343400" y="2133720"/>
            <a:ext cx="45244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A – 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arning letter sounds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ZB Manuscript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Clap 3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ZB Manu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ZB Manuscript"/>
              </a:rPr>
              <a:t>Letter sounds can help me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524240" cy="1514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5238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Bb says /b/ /b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ute baby Manuela"/>
          <p:cNvPicPr/>
          <p:nvPr/>
        </p:nvPicPr>
        <p:blipFill>
          <a:blip r:embed="rId1"/>
          <a:stretch/>
        </p:blipFill>
        <p:spPr>
          <a:xfrm>
            <a:off x="5410080" y="2057400"/>
            <a:ext cx="2503440" cy="3611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10800000">
            <a:off x="7848720" y="1523880"/>
            <a:ext cx="83808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Cc says /c/ /c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riccarle2"/>
          <p:cNvPicPr/>
          <p:nvPr/>
        </p:nvPicPr>
        <p:blipFill>
          <a:blip r:embed="rId1"/>
          <a:stretch/>
        </p:blipFill>
        <p:spPr>
          <a:xfrm rot="21299400">
            <a:off x="4552560" y="2611080"/>
            <a:ext cx="43434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Dd says /d/ /d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Dinosaur"/>
          <p:cNvPicPr/>
          <p:nvPr/>
        </p:nvPicPr>
        <p:blipFill>
          <a:blip r:embed="rId1"/>
          <a:stretch/>
        </p:blipFill>
        <p:spPr>
          <a:xfrm>
            <a:off x="4267080" y="3124080"/>
            <a:ext cx="4591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Ee says /e/ /e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photo of elephant calf"/>
          <p:cNvPicPr/>
          <p:nvPr/>
        </p:nvPicPr>
        <p:blipFill>
          <a:blip r:embed="rId1"/>
          <a:stretch/>
        </p:blipFill>
        <p:spPr>
          <a:xfrm>
            <a:off x="4724280" y="1676520"/>
            <a:ext cx="3581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Ff says /f/ /f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family1"/>
          <p:cNvPicPr/>
          <p:nvPr/>
        </p:nvPicPr>
        <p:blipFill>
          <a:blip r:embed="rId1"/>
          <a:stretch/>
        </p:blipFill>
        <p:spPr>
          <a:xfrm>
            <a:off x="4800600" y="1371600"/>
            <a:ext cx="35892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ZB Manuscript"/>
              </a:rPr>
              <a:t>Gg says /g/ /g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Mountain_Gorilla_Rwanda"/>
          <p:cNvPicPr/>
          <p:nvPr/>
        </p:nvPicPr>
        <p:blipFill>
          <a:blip r:embed="rId1"/>
          <a:stretch/>
        </p:blipFill>
        <p:spPr>
          <a:xfrm>
            <a:off x="4433760" y="1676520"/>
            <a:ext cx="425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9:18:59Z</dcterms:created>
  <dc:creator>.</dc:creator>
  <dc:description/>
  <dc:language>en-US</dc:language>
  <cp:lastModifiedBy>Help Desk</cp:lastModifiedBy>
  <dcterms:modified xsi:type="dcterms:W3CDTF">2009-09-16T23:23:14Z</dcterms:modified>
  <cp:revision>9</cp:revision>
  <dc:subject/>
  <dc:title>Learning Letter Sounds</dc:title>
</cp:coreProperties>
</file>